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8CBB-E975-427C-B0EF-D5C8F09CA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879C-5B6E-4B9D-88DE-BC8A60B5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6612-1CDE-4EA3-ADBB-2F3914D74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B8D5-ECEC-4430-8494-B99BD5853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4C49-F776-49B8-95B4-2DD1BD59B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C7EA-1B0E-46F9-962E-B12C645E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F070-6D9C-4927-AFCF-12AF4717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443F-8C3C-49EB-91E0-937FE789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96E6-4135-431F-90E3-17B9A4E7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5038-3D4B-4EE0-8DFE-E04E03DF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ACCC-3451-4F9E-9A04-418B429C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3034-26DB-4E07-B793-F6DE1835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01A3-D54A-40C6-907B-BFBFE757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D51E-CA10-491A-AD1D-97F6D6CA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10AFC-77F9-495F-84F5-3CCB5475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88C2-BE45-4120-8C06-4C562E3C0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0778-F97E-435E-BEC3-D7B84FC2F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95F849-FF69-4688-98E9-3875B7F9F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3CB1F8-3877-48E9-BBE2-1F936D94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54EF0A-FC7E-4877-954F-D9BBC166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BD0BC3-9494-4E35-B051-839F8B0B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0A2DE6-D4FC-47B6-AF67-CAC316C6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F441-2F6A-4F97-809F-990EF151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7E76BD-7861-4B6C-A6E7-89B9063A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3B0202-9FC7-4900-8EE1-B0632CAA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ACA4AC-DFF8-44BB-91CB-7E76450F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30A8FE-F37D-4531-A8F9-52F13686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747722-371C-462E-9FFE-5278FF96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5FE654-9BD4-4691-8C8D-8A3FCD9C2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35B172-2970-4233-ACE8-307F22CE9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99CCD-57DB-4C91-A93B-52BEF8CD8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4A388-7D42-4D11-BDAD-1C00312C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EB675-3EFB-441E-BC24-2AFEB82A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45E5-5427-40B1-8D45-C737AF56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E114B-BC8F-4F07-9E04-94D31954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F23AF-11BF-4D9F-882B-A3B4619C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AA7AE-AE30-44EC-A223-D3D7AE6A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BD203-7538-44FC-B4DA-E5FB049B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C8B9F-1A3A-44F0-AC04-980B39BC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B1D6C-049E-4F97-9C94-57662E55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CD4E8-6556-4D74-9E38-286A4ED2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1993B-9A23-4A28-B732-E24BFA567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6A5E5-2F1F-4D18-ADE3-A26EF3FF7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B5F9-7CF1-4BBF-A4CF-B1576DDB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FEE2-A0BF-44AA-A12B-933E9E64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A3A9-6671-4357-8694-EC01F188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08AD-7576-4747-910B-38ABD7C1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CD86-8AD5-4ACA-B105-7E50D504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FB07-7E2C-4E68-9799-060527F0F8BC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CA37-2760-4550-99BE-AD6440758EF7}" type="slidenum">
              <a:rPr b="0" lang="el-G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153A-E675-4DB1-8A44-588CD87665AD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18E5-9E9F-46A9-A870-CB914C880C20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i-grafis.com/spaw2/uploads/images/dali1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ΠΟΙΗΜΑΤΑ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424242"/>
                </a:solidFill>
                <a:latin typeface="Arial"/>
                <a:ea typeface="Arial"/>
              </a:rPr>
              <a:t>Τρία Χαϊκού, Γ. Σεφέρης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IA</a:t>
            </a: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Εικόνα 1" descr=""/>
          <p:cNvPicPr/>
          <p:nvPr/>
        </p:nvPicPr>
        <p:blipFill>
          <a:blip r:embed="rId1"/>
          <a:srcRect l="19494" t="0" r="1949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Πού να μαζεύ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α χίλια κομματάκια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υ κάθε ανθρώπο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ΙΕ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Βουλιάζει ο κόσμο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κρατήσου, θα σ' αφήσε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μόνο στον ήλιο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         </a:t>
            </a:r>
            <a:br>
              <a:rPr sz="2500"/>
            </a:b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ΙΣΤ΄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Γράφ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 μελάνι λιγόστεψ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η θάλασσα πληθαίνε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 u="sng">
                <a:solidFill>
                  <a:srgbClr val="e68200"/>
                </a:solidFill>
                <a:uFillTx/>
                <a:latin typeface="Calibri"/>
                <a:hlinkClick r:id="rId1"/>
              </a:rPr>
              <a:t>http://www.peri-grafis.com/spaw2/uploads/images/dali18.jpg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23:45Z</dcterms:created>
  <dc:creator>ΓΙΩΡΓΟΣ   ΔΕΣΠΟΙΝΑ</dc:creator>
  <dc:description/>
  <dc:language>en-US</dc:language>
  <cp:lastModifiedBy>giorgos</cp:lastModifiedBy>
  <dcterms:modified xsi:type="dcterms:W3CDTF">2012-03-25T17:17:28Z</dcterms:modified>
  <cp:revision>3</cp:revision>
  <dc:subject/>
  <dc:title>(πίνακας του Νταλί)</dc:title>
</cp:coreProperties>
</file>